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19.jpeg" ContentType="image/jpeg"/>
  <Override PartName="/ppt/media/image11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5F15-5655-4A49-AE4E-8664259B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CEC-6967-4E78-93C4-3BD3508E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272-F7B0-4871-8AC2-B8B77B9B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DA2-C8B9-4135-BF6A-1D983365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8B490-1434-4417-982C-3DB27B0A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8F646-92E2-4AA3-BAEA-9E587605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10ADF-A5FF-4910-9EA5-537EFF1C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0960F-762B-4709-BDAB-3C8E2D22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6B7CB-B160-4193-B1D3-B2819BFC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5720F-F239-42A1-A15B-352D0675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7B83D-9379-4F74-BA09-23B6FD04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58A-1DA0-49F5-B6D1-5357CAAB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F9120-71AA-4CA6-AA32-78DAE111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C4924-6F88-45E9-A11F-05462BE1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43F6D-1425-4F7D-AC8C-AEFF2C2C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E81B6-44D5-44A9-8EAB-BD573425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55ACF-7906-4098-BCB4-0230A8AB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189A2-1ED9-4B2A-80B8-8935ADE8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4F6E7-BFF3-4046-94F9-9F73CE1F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A2EAE-6A3F-4022-ACC5-3ED6A518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F1615-1554-418B-83CA-244CA941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E78A-4C45-4540-9BBB-6D4A0442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CFD-82F6-4850-B92B-9AB41A34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B0B4-C9A3-4239-BF2A-392B7A7D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2FE3A-22D4-426E-8C39-AFBDEEB2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15D28-8E12-44A8-8FFB-B7ADEFE4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EA816-F32B-48CC-97F9-40C63DBF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27B7F-1F12-4849-B71B-EEA5512F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82149-B5BC-4111-B26D-50D59AE8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DFFDE-3ACE-404A-BE5B-0C2C1BC7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B8413C-40A9-487A-8C4A-7778713F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B9001F-1E0C-47FD-BE78-AF695646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932E1-C00D-4328-9A04-074EDAF4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55F-7E9F-4BF0-A8AF-0E6E518C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8E197D-19A4-4B00-8642-8A03BBD5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75ECCE-3AEC-4906-AE5A-9EB18EE9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4FC7E-BB1E-426A-A3EF-F8ABE3AF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2D8E3-4762-485E-BFC5-A0AFAC4A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5F8B92-D81F-427C-8EFB-429C5243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CC59DA-C970-40D6-AC6C-47AB371D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DDF340-189E-4D17-A859-83E8B56F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D34EE1-3DBC-4E36-8199-044EC185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DE4B90-7D48-4B4B-9C83-B6E35D8E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2D4-8B80-44CF-8D78-B9E50667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B74-EB1F-435B-A12E-B65F3C42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DAF-4997-4CE0-B781-4ACB3F10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662-AA14-45C6-87AD-29B2FF43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ED5-B417-4E75-B79D-654E7C35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FA74-A55D-41C5-B9AF-DA0078ED62E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014C-1446-4233-A105-EFC050BF19F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73D1-A10F-4E87-8206-611A85A8438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D53C-3E1E-4E8E-B9C1-F61A56D8FEF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2" descr=""/>
          <p:cNvPicPr/>
          <p:nvPr/>
        </p:nvPicPr>
        <p:blipFill>
          <a:blip r:embed="rId1"/>
          <a:stretch/>
        </p:blipFill>
        <p:spPr>
          <a:xfrm>
            <a:off x="414360" y="-133200"/>
            <a:ext cx="8315280" cy="2425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1\Desktop\Сухомлинский 3.jpg"/>
          <p:cNvPicPr/>
          <p:nvPr/>
        </p:nvPicPr>
        <p:blipFill>
          <a:blip r:embed="rId2"/>
          <a:stretch/>
        </p:blipFill>
        <p:spPr>
          <a:xfrm>
            <a:off x="380880" y="2438280"/>
            <a:ext cx="3733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Женя умерла 28 декабря, в 12 часов 30 минут утра 1941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Бабушка умерла 25 января, в 3 часа дня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Лека умер 17 марта, в 6 часов утра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Дядя Вася умер 13 апреля, в 2 часа ночи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 – 13 мая, в 7 часов 30 минут утра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Савичевы умерли. Умерли вс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сталась одна Таня»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Содержимое 5" descr="0_3e22_41fdc774_XL.jpeg"/>
          <p:cNvPicPr/>
          <p:nvPr/>
        </p:nvPicPr>
        <p:blipFill>
          <a:blip r:embed="rId1"/>
          <a:stretch/>
        </p:blipFill>
        <p:spPr>
          <a:xfrm>
            <a:off x="685800" y="380880"/>
            <a:ext cx="5791320" cy="3370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leningrad"/>
          <p:cNvPicPr/>
          <p:nvPr/>
        </p:nvPicPr>
        <p:blipFill>
          <a:blip r:embed="rId1"/>
          <a:stretch/>
        </p:blipFill>
        <p:spPr>
          <a:xfrm>
            <a:off x="0" y="0"/>
            <a:ext cx="3502080" cy="487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9895417b14c"/>
          <p:cNvPicPr/>
          <p:nvPr/>
        </p:nvPicPr>
        <p:blipFill>
          <a:blip r:embed="rId2"/>
          <a:stretch/>
        </p:blipFill>
        <p:spPr>
          <a:xfrm>
            <a:off x="2819520" y="3195720"/>
            <a:ext cx="5562360" cy="3662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073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600" y="3808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66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сталась одна пуговица от маминой кофты. А в печи две булки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теплого хлеба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тца разрывали немецкие овчарки, а он кричал: «Сына уведите, сына уведите, чтоб не смотрел…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 не сразу умерла. Она долго лежала на траве, открыла глаза: «Ира мне надо тебе рассказать…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, я не хочу… - мне казалось, что если она мне скажет то, что хочет, она умрет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не прячьте мою маму в  ямку она проснется, и мы с ней пойдем домой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тца вытолкнули на улицу, и я бежала за ним по снегу босиком и кричала: «Папочка, папочка». А бабушка причитала дома: «Где же бог, куда он прячется?». Бабушка не смогла пережить такое горе, плакала все тише и тише и через две недели умерла на печке, а рядом спала я и обнимала ее, мертвую. В доме больше никого не осталось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                  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С.Алексиевич «Последние свидетели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321760" cy="970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1\Desktop\4d733978f33d8494ce5a55a0481.jpg"/>
          <p:cNvPicPr/>
          <p:nvPr/>
        </p:nvPicPr>
        <p:blipFill>
          <a:blip r:embed="rId2"/>
          <a:stretch/>
        </p:blipFill>
        <p:spPr>
          <a:xfrm>
            <a:off x="380880" y="1752480"/>
            <a:ext cx="4114800" cy="3622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1\Desktop\помощь.jpg"/>
          <p:cNvPicPr/>
          <p:nvPr/>
        </p:nvPicPr>
        <p:blipFill>
          <a:blip r:embed="rId3"/>
          <a:stretch/>
        </p:blipFill>
        <p:spPr>
          <a:xfrm>
            <a:off x="4648320" y="1752480"/>
            <a:ext cx="426708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075"/>
          <p:cNvPicPr/>
          <p:nvPr/>
        </p:nvPicPr>
        <p:blipFill>
          <a:blip r:embed="rId1"/>
          <a:stretch/>
        </p:blipFill>
        <p:spPr>
          <a:xfrm>
            <a:off x="4495680" y="380880"/>
            <a:ext cx="4343400" cy="3154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V_Leningrade"/>
          <p:cNvPicPr/>
          <p:nvPr/>
        </p:nvPicPr>
        <p:blipFill>
          <a:blip r:embed="rId2"/>
          <a:stretch/>
        </p:blipFill>
        <p:spPr>
          <a:xfrm>
            <a:off x="304920" y="3657600"/>
            <a:ext cx="4190760" cy="2962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з тех, что родился в 1923- 1924 гг.и в 1941 году со школьной скамьи шагнул на фронт к концу войны в живых осталось только 3 %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Во время Второй мировой войны всего в мире погибло 13 миллионов дет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Погибали дети – Граждане мир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1\Desktop\победа.jpg"/>
          <p:cNvPicPr/>
          <p:nvPr/>
        </p:nvPicPr>
        <p:blipFill>
          <a:blip r:embed="rId1"/>
          <a:stretch/>
        </p:blipFill>
        <p:spPr>
          <a:xfrm>
            <a:off x="430200" y="1055520"/>
            <a:ext cx="3429000" cy="28958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"/>
          <p:cNvSpPr/>
          <p:nvPr/>
        </p:nvSpPr>
        <p:spPr>
          <a:xfrm>
            <a:off x="1204920" y="380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8c891"/>
                </a:solidFill>
                <a:latin typeface="Arial"/>
              </a:rPr>
              <a:t>Но помнят они и побед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C:\Users\1\Desktop\победа 2.jpg"/>
          <p:cNvPicPr/>
          <p:nvPr/>
        </p:nvPicPr>
        <p:blipFill>
          <a:blip r:embed="rId2"/>
          <a:stretch/>
        </p:blipFill>
        <p:spPr>
          <a:xfrm>
            <a:off x="5281560" y="1055520"/>
            <a:ext cx="3328920" cy="2895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1\Desktop\День победы.jpg"/>
          <p:cNvPicPr/>
          <p:nvPr/>
        </p:nvPicPr>
        <p:blipFill>
          <a:blip r:embed="rId3"/>
          <a:stretch/>
        </p:blipFill>
        <p:spPr>
          <a:xfrm>
            <a:off x="2438280" y="411480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Пусть дети повсюду встречают рассвет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Улыбкой ясной спокойной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Давайте же скажем все вместе – нет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Нет, нет, нет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Нет – грабительским войнам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яркое солнце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синее небо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свет в оконце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колосья хлеба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Мы нарисуем осенние листья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Школу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Ручей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Друзей беспокойных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И зачеркнем нашей общей кистью выстрелы, взрывы, огонь и вой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c891"/>
                </a:solidFill>
                <a:latin typeface="Constantia"/>
              </a:rPr>
              <a:t>«</a:t>
            </a: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Ты рожден человеком, но Человеком надо стать. Настоящий человек-это дух человеческий, который выражается в убеждениях и чувствах, воле и стремлениях, в отношении к людям и к самому себе, в способности любить и ненавидеть, видеть в мечте идеал и бороться за него». В.А.Сухомлински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4920" y="3581280"/>
            <a:ext cx="46483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ru-RU" sz="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800" spc="-1" strike="noStrike">
                <a:solidFill>
                  <a:srgbClr val="ffff66"/>
                </a:solidFill>
                <a:latin typeface="Constanti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йна началась, мы были еще дети…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чилась война, мы уже взрослые…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.Коротаева, 14 ле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Picture 5" descr="nevinn_10"/>
          <p:cNvPicPr/>
          <p:nvPr/>
        </p:nvPicPr>
        <p:blipFill>
          <a:blip r:embed="rId1"/>
          <a:stretch/>
        </p:blipFill>
        <p:spPr>
          <a:xfrm>
            <a:off x="4800600" y="3332160"/>
            <a:ext cx="3505320" cy="2889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Users\1\Desktop\сухомлинский 2.jpg"/>
          <p:cNvPicPr/>
          <p:nvPr/>
        </p:nvPicPr>
        <p:blipFill>
          <a:blip r:embed="rId2"/>
          <a:stretch/>
        </p:blipFill>
        <p:spPr>
          <a:xfrm>
            <a:off x="55440" y="125280"/>
            <a:ext cx="3907080" cy="29988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"/>
          <p:cNvSpPr/>
          <p:nvPr/>
        </p:nvSpPr>
        <p:spPr>
          <a:xfrm>
            <a:off x="4419720" y="8398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На любви к детям держится ми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В.А. 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394840" cy="847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054"/>
          <p:cNvPicPr/>
          <p:nvPr/>
        </p:nvPicPr>
        <p:blipFill>
          <a:blip r:embed="rId2"/>
          <a:stretch/>
        </p:blipFill>
        <p:spPr>
          <a:xfrm>
            <a:off x="1447920" y="1600200"/>
            <a:ext cx="6248160" cy="422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7760" y="304560"/>
            <a:ext cx="56386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Такою все дышало тишиной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Что вся земля еще спала, казалос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Кто знал, что между миром и войно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Всего каких-то пять минут осталось.</a:t>
            </a:r>
            <a:r>
              <a:rPr b="1" i="1" lang="ru-RU" sz="2000" spc="-1" strike="noStrike">
                <a:solidFill>
                  <a:srgbClr val="dd7e0e"/>
                </a:solidFill>
                <a:latin typeface="Constantia"/>
              </a:rPr>
              <a:t>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7e0e"/>
                </a:solidFill>
                <a:latin typeface="Constantia"/>
              </a:rPr>
              <a:t>С.Щипаче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Picture 7" descr="80350cbddde9"/>
          <p:cNvPicPr/>
          <p:nvPr/>
        </p:nvPicPr>
        <p:blipFill>
          <a:blip r:embed="rId1"/>
          <a:srcRect l="6278" t="5145" r="0" b="5524"/>
          <a:stretch/>
        </p:blipFill>
        <p:spPr>
          <a:xfrm>
            <a:off x="685800" y="2286000"/>
            <a:ext cx="518148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231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C:\Users\1\Desktop\Война.jpg"/>
          <p:cNvPicPr/>
          <p:nvPr/>
        </p:nvPicPr>
        <p:blipFill>
          <a:blip r:embed="rId2"/>
          <a:stretch/>
        </p:blipFill>
        <p:spPr>
          <a:xfrm>
            <a:off x="838080" y="1870200"/>
            <a:ext cx="7620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-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есть на свете дороже детей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Что есть  самое дорогое  у любого народа? У любой матер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Ребенок, прошедший через ужас войны, ребенок л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Кто возвратит ему детство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А кто подсчитает, сколько детей убивает войн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А таких были тысячи. Что помнят они? Что могут рассказать? Что могли понять, увидеть, запомнить дет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1760" cy="962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1\Desktop\дети 323.jpg"/>
          <p:cNvPicPr/>
          <p:nvPr/>
        </p:nvPicPr>
        <p:blipFill>
          <a:blip r:embed="rId2"/>
          <a:stretch/>
        </p:blipFill>
        <p:spPr>
          <a:xfrm>
            <a:off x="152280" y="114300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1\Desktop\дети война.jpg"/>
          <p:cNvPicPr/>
          <p:nvPr/>
        </p:nvPicPr>
        <p:blipFill>
          <a:blip r:embed="rId3"/>
          <a:stretch/>
        </p:blipFill>
        <p:spPr>
          <a:xfrm>
            <a:off x="5943600" y="1077840"/>
            <a:ext cx="3048120" cy="2656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C:\Users\1\Desktop\31108.jpg"/>
          <p:cNvPicPr/>
          <p:nvPr/>
        </p:nvPicPr>
        <p:blipFill>
          <a:blip r:embed="rId4"/>
          <a:stretch/>
        </p:blipFill>
        <p:spPr>
          <a:xfrm>
            <a:off x="3657600" y="1143000"/>
            <a:ext cx="1928880" cy="2616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Users\1\Desktop\i_181.jpg"/>
          <p:cNvPicPr/>
          <p:nvPr/>
        </p:nvPicPr>
        <p:blipFill>
          <a:blip r:embed="rId5"/>
          <a:stretch/>
        </p:blipFill>
        <p:spPr>
          <a:xfrm>
            <a:off x="331920" y="4064040"/>
            <a:ext cx="3630600" cy="2395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:\Users\1\Desktop\4275994_orig.jpg"/>
          <p:cNvPicPr/>
          <p:nvPr/>
        </p:nvPicPr>
        <p:blipFill>
          <a:blip r:embed="rId6"/>
          <a:stretch/>
        </p:blipFill>
        <p:spPr>
          <a:xfrm>
            <a:off x="5105520" y="4064040"/>
            <a:ext cx="36115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Users\1\Desktop\img28.jpg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fot837"/>
          <p:cNvPicPr/>
          <p:nvPr/>
        </p:nvPicPr>
        <p:blipFill>
          <a:blip r:embed="rId1"/>
          <a:stretch/>
        </p:blipFill>
        <p:spPr>
          <a:xfrm>
            <a:off x="504720" y="2567160"/>
            <a:ext cx="3381480" cy="3357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6840" y="837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В блокадном Ленинграде оставалось 2 млн. 544 тысяч жителей, в том числе 400 тысяч дете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Содержимое 2"/>
          <p:cNvSpPr/>
          <p:nvPr/>
        </p:nvSpPr>
        <p:spPr>
          <a:xfrm>
            <a:off x="3886200" y="2514600"/>
            <a:ext cx="5029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Ленинградские дети», - когда звучали эти слова, у человека сжималось серд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о звучало как пароль – «ленинградские дети»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Komp</cp:lastModifiedBy>
  <dcterms:modified xsi:type="dcterms:W3CDTF">2018-09-10T08:48:37Z</dcterms:modified>
  <cp:revision>24</cp:revision>
  <dc:subject/>
  <dc:title>МЕТОДИЧЕСКАЯ РАЗРАБОТКА ВНЕКЛАССНОГО МЕРОПРИЯТИЯ   «Детство, опаленное войной»</dc:title>
</cp:coreProperties>
</file>